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314CB9-F251-4B2B-9F53-815C03AA5C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E55421-0C73-4EA9-8F8A-1C1DDF59FC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A50F07-F737-4B97-AB59-D7C3C1E2C6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BCDF7A-7214-4E19-985D-DF4B009EF9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E5F658A-59A2-4163-B1BC-CC1260CE87E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01C8BB-A417-4E0C-8630-69C29997B8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0A1D2C-D698-4515-BE0F-B18521397E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92477B-38C3-4724-AD6B-88763C0D22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5EE620-E6DA-41AA-B5CD-A7B71B68C5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4E0D08-7A5E-4F31-BA26-6BBFA874DF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2EC3BF-493B-4CDE-B090-5C80C1F99C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B8938C-3DE0-43AE-91F9-B7E441CBAA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AE5CBC-79BB-4931-B68F-80F2E772F9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228646-41BE-453D-B684-FC892FF223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990BA8-EA9F-4296-AC61-789E633DD1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5D8EB92-38B0-411C-B6FF-CFEE345F8E8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CCF36ED-885B-4CB8-A5A7-6F265B3AA0B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81DCE8-CE64-4153-95BE-DB2BE462E5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6656C3-B0B5-406B-8674-DF602D6F48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883A94-0A7B-40E4-A5B6-056FC4A3BE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461204-2574-4F46-B453-62EDD8C7C5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3341F6-F034-4D8F-A99C-A9B8041E79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40028E-F1A5-4220-9A3F-7602CEDBF4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E0A93E-D5FB-4320-BD17-53DB64C052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D3AEB5-9AD7-4F32-9D4A-5ED6F654416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231A99-90A6-452F-B7D2-7DAACEB741C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6AF62EB-18F8-4D5D-BA31-42DB2E39789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75504E8-E11E-4BEE-8D81-445E03BABC15}"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85C22B-A0FB-48B7-A71B-E2137083CDCF}"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F39A9B-F9CA-4911-AC69-0CE9700DB95D}"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580FB2-2B32-4AB3-B3BD-DB7FD7EF48B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EF0D5E-C700-4F14-95FC-65F5C1EB005C}"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AF1C05-6C85-41A2-8A5E-3872A68B81FB}"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60D238-F5EC-4D2C-93C1-DC38DEC7BC81}"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D15212-94E3-46CE-A4A5-5107A459037B}"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B263FC-88F3-4C65-A6F6-8AC2A1CC569D}"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334B18-7BEB-4B90-AF6A-4E10B11AD14C}"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77A1EF-F101-48B2-8009-3EFEBF99626D}"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A3A4FE-02D8-4761-B922-2CCD06DD70C2}"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4170C9-A15B-4A89-B30A-71E04055DF68}"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C46A04-7546-4CFE-AC6B-25265FFB81D9}"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B4BA8B-92DA-4812-B8A4-0B3FCF74166B}"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0762C4-904D-4E3A-AE74-AB732805C7EC}"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9C36F4-CDC3-423C-B760-497395A05392}"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DA3559-CAA2-4CA7-B369-0A91D697CC68}"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026DE0-B38C-4179-B332-4CF0B7F3DB63}"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B11C5A-CB39-4B1D-904F-B9CD018DFC8A}"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3CEBC8-F077-46C1-8758-752E653778D3}"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0FD672-A66B-4198-B151-F019CF990ECD}"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C12846-5FD9-463E-9E61-D40CC6D5255B}"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3BCB29-15AC-4C9E-9A1D-22878CBDD334}"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BF1ACE-D83F-4B52-B3BD-E10CC207C300}"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99A4C0-7976-4817-B710-6F4B5C9110D0}"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174362A-508C-4564-A7F7-B6A5CC703BF8}"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42E7C9-EF7C-42F4-A9B6-41366B970368}"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CA50AC-76D9-4EA4-846F-A9BFE3A5A02E}"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7F01A6-6617-48E7-A766-89547717506D}"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331ECE-5B04-4338-8DD3-C2316B860C53}"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416301-0B51-49E0-AFCD-98F8969FE465}"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8934D9-45BA-49BF-8CA2-B4A049192526}"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861BCF-31BE-41DE-B023-1129D729C221}"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A4844E-C4B3-4D1A-868B-FC46CFD7325C}"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671C2E-98E7-43B3-AA8E-6F755449E59A}"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583D83-0F2B-4732-8B8B-8B861DF77C81}"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4E9ED4-A6AB-4AA2-A7C7-D0ECBDAEDCF0}"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E3D64D-F5C0-45E8-92A0-8BEED947CAE8}"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6033C1-B895-4F7B-B184-AADF801AB363}"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61F547-C448-4568-A3C8-C3DAA2ADC90E}"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46AF8A-91BE-42B5-905F-C4C27CEB93EB}"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279878-EE40-42AF-AAC5-8530F38911C3}"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D654A9-8230-4C7E-90F1-19A9528F4089}"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891E9C-AED2-402D-A708-A79E74066868}"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C940EE-91FA-4C33-923A-983E93F23BF2}"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62C919-2F28-47F8-9665-6A0099747CCE}"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910D783-3CEF-4BC3-A314-C66FD8E1C74E}"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AD74BA-B9CD-4F85-B150-E211D6811432}"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F9BC6E-7B90-4DD7-B9ED-6FEB33D8F20E}"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A58D1AC-C134-4664-AFFE-6E769ED26327}"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7D4969-F532-4278-ACDD-9C7B71DA0CA9}"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98D4BC-B540-45A8-BCFF-41298EEE2478}"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995722-5AF2-4B2E-BE06-AF0AE5818B50}"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57B87D-135F-45AB-874F-F5E7CD649BB1}"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2F5154-BEF4-4876-B9DB-F33A88DE96C0}"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762BDF-44FA-4B57-A199-E05ED890BE85}"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D359CF-3F68-4534-BDC1-8E1B8F8E71BC}"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F183323-0703-4958-A5D6-41CE5AFE77B0}"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906540-290C-4732-AEB0-B36E0EA9ABB7}"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40E704-3E5E-4817-86EE-7037185A471B}"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02057A-40C4-4A31-A50E-E37801597737}"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B9DBC0-6EBA-4ABC-8D62-EB1293C7E056}"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08CD88-895B-4EFB-8F50-21B0D2461C2F}"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53F25D4-79D6-43BC-8E3B-FE6A56A29362}"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3EA5E6-F578-4732-879F-16CAAEAF8279}"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531BA9-E73A-4045-AB5B-8A7E5A4DD7BD}"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149717-71B4-422A-94D5-662867F25CB3}"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CA7D5E-5FA8-47D9-8DB0-48251713DB34}"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6B61D48-5439-42F1-9101-66FFABFA5172}"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23BB12-6FC5-44D6-992A-2E17A832C2BD}"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4215C0-A5ED-4B37-B347-CB55B1CE9BC9}"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881C76-D3BC-4AE1-938C-9954FDC4FC99}"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013BAF-0C31-4DD1-820C-BE3662F33DCC}"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B88E8B-F7B0-4127-991E-D8AD1B30C13A}"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5E92D9-ED51-48C7-8485-C3A1D574B2B8}"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A5604CF-D9AB-4DE8-A7EB-E01862B706BE}"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87D40F-910D-4861-AF4D-501A2B0F49F1}"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631854-1B6B-4172-8BBF-9983C857318A}"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477A57-9C44-49D9-B9C6-DCA19B0CD746}"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7CD7CC5-4B60-4467-90E1-CE0EDD80DC2C}"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87BA5B-4E65-4104-903B-984CF9BD6BD4}"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F65B430-A3F6-425F-8B99-093FDDD58674}"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2D2E46-09A1-4F89-8CBC-1458CC191350}"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6E13C7-A047-405F-9467-86BA2E7AAB2E}"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0C1C24-A64B-4DAA-B633-8E1B7FE2BAE4}"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E3F7C4-1F76-44F3-9F31-3FBAAF9B3542}"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D0642A-B8EA-4C49-A742-E08E8683BF56}"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FEDE63-89A3-4CAE-B8F8-C8F05CE74368}"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CDED93-AE32-43E5-A926-C4D00A6CB5BE}"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207AF5-359D-4FE4-B8DF-88E06B02A5E2}"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02B621-26E1-45A8-BE2C-2A841BA447C8}"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008EDB-D0EB-4A6A-AA19-E0ECA72951C6}"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B8DB23-6632-44BC-ACD6-7D273732BBC7}"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6B1741-38B8-4E5F-B900-CDD6EC4FF975}"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22EE30-A0EC-486D-90FA-7FC47F546CCF}"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67F225-B2E2-4FA9-BE74-E5E4F0A6746C}"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300124-3FFB-49EB-9437-1B2DAC9ED763}"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8FC1F28-AADE-4F0B-8317-E90466074999}"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EC7AF8-82C5-4E91-B107-187EE08F12EE}"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77F945-7057-48E1-ABFD-F276E5A314C9}"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A43687-CB83-4179-BB74-CC0450F43EC7}"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88ED7D-073F-4648-9BC5-69490A6F8846}"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B817F8-3B6F-40FB-BE52-B226D412A078}"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6C4302-F40F-4E9A-AE1C-83E18D5885EE}"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BA8305-4177-4984-8EF8-01D759F9B6DF}"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F6ACDE-7DED-47AD-8A02-E7A7337BA81A}"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AA371C-DBE1-45DE-B8BA-DB3AB41630BE}"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8A3F7D-0792-44E4-BF2E-75AF173068C7}"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54C287-7502-4839-BA27-23D7CC99977B}"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62EC0A-18B8-47CB-8D0F-BB24A762B42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084A0A-7157-41DA-BB49-9DC7CFC1E69B}"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66A76D-FD19-4B8F-9572-CE5FD17BF6A4}"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38980A-4F3C-4BF9-BE28-64006081F4EC}"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8B7EB5-DBA4-412B-8006-460274D40AF3}"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D89F6D-15B8-43CB-A402-E1A1BE02D67A}"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AA77FF-1835-4705-859C-3B48DAA1A3A9}"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8E7C9D-D0F9-45D7-A75E-D2A54270794F}"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ECC063-3BB6-4DF1-8A33-3BDDCEB21D66}"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3574CF-390B-439D-9F0E-388B437305B1}"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ED234A-8FFB-4554-8B5E-A8ADA2634EB4}"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9C355E-980F-4447-B222-AFC2FB87E8DC}"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0E5E53-A84A-475D-92E7-3BDE1276F6CF}"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92FDDA-9209-47F9-92FA-A9D05B4D4220}"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43E4DD-A42A-41C4-AD60-9511FCE1C4EE}"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CB498E-A1B0-4FEB-B982-4737DDE7C496}"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589E572-8DF3-4C5D-A8AA-193824417DC1}"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7589D2-CD18-4FBB-812B-B71E5B5967B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E9C912-5C51-4E45-957E-396D6F22506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269996-22FC-4282-89CA-A7DA335FD73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D3EB8E-E790-40B8-B244-E1E1B508C32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0B3B37-DC74-4207-AC3E-2441B2C6E61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5EDF2D-B2E2-4A71-9C68-E700B1084CA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825FCBA-C680-46A0-8775-BAA9D613AEB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18DDE2-FC60-4691-8B08-5D2EC1DD754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4033CD-2C2F-4387-8E75-0B18A755CE7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41DBD4-1A96-4CC0-A531-DD5C357A373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E6262E-4E17-45D9-9188-1854C049C1B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E92402-D3B6-437F-8643-04D8290FD20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E44A58-427B-4E77-8C56-C4DA13621B7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91CEF7-637B-4E09-A8A6-6D2F8E3E86E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A9301B-FAF1-4129-A83E-A3CF723533C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106933-5DB5-40FF-B80F-BBFCEC77A65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84BEA5-9D5C-4C07-BD4F-F03AE600139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503C8B-BF4A-4D59-9F3B-A93A8E98AA1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95AED8-8EF9-4BFB-B1F5-632EBD818C4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F22C86-E362-488B-896B-3C20E97314C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32987F-31F1-4D9B-AF6B-08CDFACC32D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B16542-C636-4897-88BB-8CF835D288A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87AFE7-DBF1-4ED5-9C18-4C0D20007F6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6C6156-A15A-4D8F-8E11-6C5ECE0EBF0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24FD9B-016C-4AF0-BA13-16B373DBBF3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05EEA4-01E6-4C82-9FF5-F65280C1AFD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A0D450-11A7-4FC1-8D5E-26F2AAD5B71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9F866A-5566-4EF8-ACA4-8B52B067192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61B634-A64D-425D-B3E6-05EC53DA2E6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1ABCDE-5ECF-4955-8897-D96D6FDF5F7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C9DA43-4EDB-4416-9398-3A0E7EDDC45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69C22E-BEE8-4AC4-8809-E97A9BAE15D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454CFE-BFFE-46B2-8B1B-1A6B7C2FCF8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ADA286-E0FD-4276-9FD0-031BDAF039B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2BE92B-9BA5-48FC-8CCE-DAA1B9F238D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3AF39B-C0BE-4840-91D9-A17CE6DC3AF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3F77F2-7BA5-4643-A3D5-88B7877EA63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F91772-16B5-425B-9F87-ADE33437C8B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07F7C9-D5B2-40AD-9AF1-84ABDAE7F70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12F78E-4AFD-449A-8EB0-5224A573E7D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8D4C49-A3AC-4EC1-B884-2EF4BB1D5758}"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35450E-5074-4FAF-9074-C229F3C153D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754DAD-6777-4AF8-91D3-FC188C5BAB98}"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1CB1BB-74AA-4BEC-9935-8A49B614594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7EC206-1AB5-4576-98BF-2B260AE43E1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63979D-63F0-4514-A788-8073409AE17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5BF2C8-4819-4FDC-8CBF-92E4FA6715F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850DF05-55A8-4164-9F8D-C999548EEB3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09DA91-16DF-404E-B6ED-4D973475C4A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28E9FD-1250-49B5-8460-4EB37E74C9A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C17A21-6432-4801-8D25-A4026E5C404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ACC94B-34FF-40A6-806C-C55C0D8E1E5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E5170C-766A-478A-95F1-4BCD3E3ADC66}"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1E6D8F-3836-4697-98E6-3BDF4050F74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5E406D-5614-4F8A-9E03-79BB04C2D4B0}"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042341-49D3-407F-B4F8-F9DCAC8109D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0C5516E-DBB1-4C22-A085-FB860C2055A0}"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C07654-1DCD-46F5-9B96-9E7BF0153EF0}"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54BD23-6688-4431-BAAB-88813BA913B5}"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0083F0-88D4-4A70-AD55-03A6C5E6315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6ED88D-2AD0-46CB-A54F-0CA45619FA7A}"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C6F898-D27D-4782-ABA9-9D98F34E8EC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1B0EBB-90FD-4F63-BE76-6DDA2FBDA8E5}"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5A505A-5486-4E1C-96CB-151A1CE37968}"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AA5369-2FCE-4133-BB38-914E30DEDED2}"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1B8ED8-F0FA-4FAF-B70A-E6849C2E4FE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4A9F06-CF58-433A-A3B6-40D78123DCFD}"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AE3763-EE51-4474-BA98-42CA6D9CC804}"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2B35DC-B476-43E1-8F17-C5395EFCC9F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780726-1BB7-408E-B087-5CD38D2F5552}"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29337E-60D6-446E-98A9-50C71893574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56A8D99-10F5-49CD-882E-41A279874EB3}"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EC0B07-8675-4690-90A3-C63AA7DAFDF9}"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B07207-FD5A-492E-B194-01D33A019CB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41E47F-1F46-4A9E-A2AB-CC03E68F3EAE}"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6E1492-740B-4ABC-A5C6-81900FA1135D}"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499533-28BC-4EC9-B6A1-10CE098C5A86}"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679A2B-C5B0-416F-8965-B80862B8B82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9489C8-EDF7-49F9-9CCB-9C74D4EDE295}"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1416A1-A4AC-4ACD-B4F2-5293B4953FDA}"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BCF773-26E0-4125-8A60-4DA1B6B2B90F}"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2FF6AA-CC33-43C6-8637-0A94C2D8D2BD}"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3B7522-5277-47DD-ABAC-2BEEFDAE108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11F360-6250-4B91-93AC-85E5A6D315D7}"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EA5325-2AE5-4247-9613-9D706E0BBE29}"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